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F20-DF37-4F0C-BF36-4F07D03A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AA1-80D9-48BE-8931-DFB66431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3CF-A0B7-403E-8878-36CBC378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D07-3F12-40B3-BCBB-82AE5707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183D-876C-434B-9E43-D0E521CE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C81B-9E4D-4607-A329-CD779F1F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F8CA-9359-4896-86BF-99AFDFE7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10E7-AF14-4F91-B5DA-C4D2D43A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5115-F77E-4336-A691-E3D7E15E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6C2C-1F28-4F9B-B37B-14EE7917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20BC-C290-4C81-81DF-63EAEE21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497-7C53-4AB3-92DC-8897396B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7958-6CED-49C0-B5BC-A9DAB7BB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E6FA-B9A6-4D05-B75C-9CD7500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E0AD-7ED6-4015-9ACF-D5BA7614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5BAF-1BD6-4845-BA92-17DC0810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9E8C-2042-43F8-AC3F-413CFA56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65F-A997-4E2C-B3A1-4C5647DF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734-62FB-4922-B663-C013ADF5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DFD-BDF0-44C0-8419-F979F108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F5D-62EC-4D5D-BA8A-8F42D43A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82B-378F-4317-934B-BC1F941E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FFD-AB38-462E-AD13-67130278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BD0-1B87-4013-BB8C-48E3B32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D25D-CE09-460C-ADF2-A8EB2FD032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1A93-7690-4358-AF82-AC308D0CFB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lack Death which killed at least 38,000,000 people in forteenth century Europe and China slowed the worlds poplulation growt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lack Death, which killed at least 38 million people in fourteenth-century Europe and China, slowed the world’s population growt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Freewrite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any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ocabulary Pract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nd a partner, it can NOT be someone you have worked with befor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o Vocabulary squa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bout ten minut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hapter 13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Why does Aunt Alexandra come to visit? How long is she stay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ow does she treat Calpurni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What are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ildren’s reaction to the visit and her treatment of C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What is Aunt Alexandra’s major theory concerning human behavior? How does that compare to Atticus’s belief about human behavi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How does Atticus react to this belie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ssignment-In your noteboo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e a diary entry from either Scout, Jem or Atticus’s perspective on Aunt Alexandra’s visit and her effect on the household. (2 par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n write one from Calpurnia’s point of view. How would she feel having things change so dramatically? (2 par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Study Vocab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Quiz tomorrow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No reading homework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5:07:23Z</dcterms:created>
  <dc:creator>rebecca</dc:creator>
  <dc:description/>
  <dc:language>en-US</dc:language>
  <cp:lastModifiedBy>rebecca</cp:lastModifiedBy>
  <dcterms:modified xsi:type="dcterms:W3CDTF">2009-02-11T21:05:49Z</dcterms:modified>
  <cp:revision>2</cp:revision>
  <dc:subject/>
  <dc:title>DOL</dc:title>
</cp:coreProperties>
</file>